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5.wmf" ContentType="image/x-wmf"/>
  <Override PartName="/ppt/media/image1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E9201A-8168-42AD-9465-B4E240548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BDEFDD-4E7B-4951-973D-4DCAE3D91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920" y="4422240"/>
            <a:ext cx="51530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648819-F187-40CD-8D51-D511BEBD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B8413C-CD95-43D7-82BB-169B9AAD2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F56C4F-8DFF-488B-BD0A-1F905027F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BCA40E-B49B-4117-8882-F648D71F0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EE7D87-6FD5-4575-8D36-E56200DF4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82A785-8BD1-492A-9C7B-AD4AB655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B60F01-4FBE-4E6E-AA0F-85490D140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548EC6-2CC6-4447-9751-B6EA31D4B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19F549-9A40-49F3-BBFB-3CC43664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02BC2F-B050-4931-89D8-C6B92905C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7A3-4B3E-4245-B52B-D94B13C2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981-2C44-4C1C-B601-B0BF4CA7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08D-CB5B-49AE-88FD-3497FAF6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599-8EDA-417B-B12C-8E090C60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F87-E815-4EE4-B63A-1590ED66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B93-2D71-42F1-95F1-6960FFD5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4C9-FF7B-44E6-9090-902AC9CA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00F-79E4-405C-9162-9E595EBD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DFF-51AA-4CB1-9E82-2FF52604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F87-1FCE-4C32-AC51-0BACF5AC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11B-E0D4-4EF9-A6E3-6992A4A0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F02-8233-4D72-8524-441D5DC7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77EE-AB45-4535-8E29-E5C1AD63D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c.gc.ca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49" name="Picture 8" descr="CASIP Insignia.jpg"/>
          <p:cNvPicPr/>
          <p:nvPr/>
        </p:nvPicPr>
        <p:blipFill>
          <a:blip r:embed="rId1"/>
          <a:stretch/>
        </p:blipFill>
        <p:spPr>
          <a:xfrm>
            <a:off x="380880" y="914400"/>
            <a:ext cx="3022560" cy="160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66680" y="3048120"/>
            <a:ext cx="72392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Employer Services Network</a:t>
            </a: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Understanding Sector Partnerships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Aleksandra Walczak, Project Manager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July 30, 2012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51" name="Picture 6" descr="CI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6172200"/>
            <a:ext cx="28195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914400" y="9144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57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Factors for Succes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59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60" name="Diagram 14" descr=""/>
          <p:cNvPicPr/>
          <p:nvPr/>
        </p:nvPicPr>
        <p:blipFill>
          <a:blip r:embed="rId3"/>
          <a:stretch/>
        </p:blipFill>
        <p:spPr>
          <a:xfrm>
            <a:off x="682560" y="1378080"/>
            <a:ext cx="7705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Stakeholder roles and responsibilities are clearly delineated and 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llaboration is formalized through protocols and partnership agre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Training and professional development is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Cultivating team spirit builds trust and fosters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ponsibilities are integrated into performance measurement and job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Employment opportunities may be referred from exter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Employers are given opportunities for in person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sultative management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exibility and respo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Best Practice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71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858000" y="6248520"/>
            <a:ext cx="22860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fo@casip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-855-CASIP-9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@CASIP_E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SIP Employer Services Network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 Black"/>
              </a:rPr>
              <a:t>How to reach u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82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C:\Documents and Settings\awalczak\My Documents\Technical\twitter.png"/>
          <p:cNvPicPr/>
          <p:nvPr/>
        </p:nvPicPr>
        <p:blipFill>
          <a:blip r:embed="rId3"/>
          <a:stretch/>
        </p:blipFill>
        <p:spPr>
          <a:xfrm>
            <a:off x="274320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C:\Documents and Settings\awalczak\My Documents\Technical\linkedin.png"/>
          <p:cNvPicPr/>
          <p:nvPr/>
        </p:nvPicPr>
        <p:blipFill>
          <a:blip r:embed="rId4"/>
          <a:stretch/>
        </p:blipFill>
        <p:spPr>
          <a:xfrm>
            <a:off x="9907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781680" y="6248520"/>
            <a:ext cx="23623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85800" y="6858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onsortium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f independent, community-based agencies and colleges who deliver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employm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and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train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services to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internationally-trained</a:t>
            </a:r>
            <a:r>
              <a:rPr b="1" lang="en-US" sz="2400" spc="-1" strike="noStrike">
                <a:solidFill>
                  <a:srgbClr val="339933"/>
                </a:solidFill>
                <a:latin typeface="Gill Sans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job seekers and to employers in the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G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Working together since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1998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we share our experience, expertise and resources to impro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ogether we  serve over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70,000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ewcomers per year – and some of our organizations have been doing this for over 60 ye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838080" y="8380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58" name="Picture 8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Background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62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934320" y="6248520"/>
            <a:ext cx="22096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33520" y="9144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85800" y="3352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85800" y="4648320"/>
            <a:ext cx="1663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70" name="Picture 12" descr="costi"/>
          <p:cNvPicPr/>
          <p:nvPr/>
        </p:nvPicPr>
        <p:blipFill>
          <a:blip r:embed="rId1"/>
          <a:stretch/>
        </p:blipFill>
        <p:spPr>
          <a:xfrm>
            <a:off x="1219320" y="2209680"/>
            <a:ext cx="190476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humber logo"/>
          <p:cNvPicPr/>
          <p:nvPr/>
        </p:nvPicPr>
        <p:blipFill>
          <a:blip r:embed="rId2"/>
          <a:stretch/>
        </p:blipFill>
        <p:spPr>
          <a:xfrm>
            <a:off x="1066680" y="3505320"/>
            <a:ext cx="2362320" cy="47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job-start"/>
          <p:cNvPicPr/>
          <p:nvPr/>
        </p:nvPicPr>
        <p:blipFill>
          <a:blip r:embed="rId3"/>
          <a:stretch/>
        </p:blipFill>
        <p:spPr>
          <a:xfrm>
            <a:off x="1066680" y="4648320"/>
            <a:ext cx="2210040" cy="59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Seneca Logo"/>
          <p:cNvPicPr/>
          <p:nvPr/>
        </p:nvPicPr>
        <p:blipFill>
          <a:blip r:embed="rId4"/>
          <a:stretch/>
        </p:blipFill>
        <p:spPr>
          <a:xfrm>
            <a:off x="5410080" y="3581280"/>
            <a:ext cx="2210040" cy="627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0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Member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75" name="Picture 20" descr="CASIP Logo.gif"/>
          <p:cNvPicPr/>
          <p:nvPr/>
        </p:nvPicPr>
        <p:blipFill>
          <a:blip r:embed="rId5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ACCES Logo.gif"/>
          <p:cNvPicPr/>
          <p:nvPr/>
        </p:nvPicPr>
        <p:blipFill>
          <a:blip r:embed="rId6"/>
          <a:stretch/>
        </p:blipFill>
        <p:spPr>
          <a:xfrm>
            <a:off x="1066680" y="914400"/>
            <a:ext cx="4953240" cy="10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MS Logo for Website.bmp"/>
          <p:cNvPicPr/>
          <p:nvPr/>
        </p:nvPicPr>
        <p:blipFill>
          <a:blip r:embed="rId7"/>
          <a:stretch/>
        </p:blipFill>
        <p:spPr>
          <a:xfrm>
            <a:off x="5105520" y="2209680"/>
            <a:ext cx="327636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JVS Logo.gif"/>
          <p:cNvPicPr/>
          <p:nvPr/>
        </p:nvPicPr>
        <p:blipFill>
          <a:blip r:embed="rId8"/>
          <a:stretch/>
        </p:blipFill>
        <p:spPr>
          <a:xfrm>
            <a:off x="5638680" y="838080"/>
            <a:ext cx="350532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7" descr="SkillsForChange New Logs.gif"/>
          <p:cNvPicPr/>
          <p:nvPr/>
        </p:nvPicPr>
        <p:blipFill>
          <a:blip r:embed="rId9"/>
          <a:stretch/>
        </p:blipFill>
        <p:spPr>
          <a:xfrm>
            <a:off x="5181480" y="4572000"/>
            <a:ext cx="3581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629400" y="6248520"/>
            <a:ext cx="25146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he Mentoring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anadian Workplace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oordinated Job Development (CASIP E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Bridging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Job Fairs / Just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nformation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Vi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Recent examples of Joint Initiatives 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89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C:\Documents and Settings\awalczak\Local Settings\Temporary Internet Files\Content.IE5\N2VOMPVX\MC900230642[1].wmf"/>
          <p:cNvPicPr/>
          <p:nvPr/>
        </p:nvPicPr>
        <p:blipFill>
          <a:blip r:embed="rId3"/>
          <a:stretch/>
        </p:blipFill>
        <p:spPr>
          <a:xfrm>
            <a:off x="2514600" y="4114800"/>
            <a:ext cx="36021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858000" y="6248520"/>
            <a:ext cx="22860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Full suite of human resourc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Pre-screened job ready professional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Coordinated access point to diverse and qualified tale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Core group of 23 Job Developers with specialize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Monthly meetings and job sharing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Over 70 Job Developers in expand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Sector-specific spe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Tailored recruitment, networking &amp; mentorship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Hotline and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ntique Olive Roman"/>
              </a:rPr>
              <a:t>Services Offered to Employers</a:t>
            </a: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01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ll suite of employment services and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tor specific bridging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nguage training opport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rdinated access to addi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Services Offered to Job-Seeker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12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Documents and Settings\awalczak\Local Settings\Temporary Internet Files\Content.IE5\UL38QTQ7\MP900422989[1].jpg"/>
          <p:cNvPicPr/>
          <p:nvPr/>
        </p:nvPicPr>
        <p:blipFill>
          <a:blip r:embed="rId3"/>
          <a:stretch/>
        </p:blipFill>
        <p:spPr>
          <a:xfrm>
            <a:off x="6477120" y="3352680"/>
            <a:ext cx="1904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781680" y="6248520"/>
            <a:ext cx="23623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85800" y="6858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18" name="Picture 8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22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0" y="762120"/>
          <a:ext cx="9144000" cy="64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914400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14"/>
          <p:cNvSpPr/>
          <p:nvPr/>
        </p:nvSpPr>
        <p:spPr>
          <a:xfrm>
            <a:off x="0" y="47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705720" y="6248520"/>
            <a:ext cx="24382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etween April 2011 to Jun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26 employers referred into CASIP E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711 positions on our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927 ITIs with increased access to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ver 100 were interviewed at our last Recruitment Event al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Successes to Date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37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705720" y="6248520"/>
            <a:ext cx="24382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factors have contributed to success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work for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What about you?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48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9:57:13Z</dcterms:created>
  <dc:creator>Mary</dc:creator>
  <dc:description/>
  <dc:language>en-US</dc:language>
  <cp:lastModifiedBy>gp</cp:lastModifiedBy>
  <dcterms:modified xsi:type="dcterms:W3CDTF">2012-08-02T20:40:00Z</dcterms:modified>
  <cp:revision>16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GahKGu_ZmFInjm_DZ8BtnaUrTJTy9uf5ldqkHZmDQdg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1330907432194805424</vt:lpwstr>
  </property>
  <property fmtid="{D5CDD505-2E9C-101B-9397-08002B2CF9AE}" pid="6" name="Google.Documents.Tracking">
    <vt:lpwstr>true</vt:lpwstr>
  </property>
</Properties>
</file>